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AAC03-A532-467A-86C0-547F2E28D1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7276B-5E85-4CFE-94EA-2465B4C197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7E5DE-E68C-4019-BE9D-47D186CE98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5" name="Rectangle 1"/>
          <p:cNvSpPr/>
          <p:nvPr/>
        </p:nvSpPr>
        <p:spPr>
          <a:xfrm>
            <a:off x="304920" y="6172200"/>
            <a:ext cx="1657080" cy="53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" name="Picture 8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304920" y="6172200"/>
            <a:ext cx="1657080" cy="53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" name="Picture 11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fiv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ying a hom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Picture 7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buying a hom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1: determine home-ownership need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type of housing should I buy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can I afford to spend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2: locate and evaluate a hom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re do I want to liv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aspects of the home need improvemen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3: price the propert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is an appropriate market pric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negotiation movement exists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4: obtain financ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down payment is availabl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are current mortgage rates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an I qualify for a mortgag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type of mortgage should I ge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5: close the purchase transactio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is the closing dat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funds and documents will be needed for the closing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s everything understood before the final signing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7132680" y="6323400"/>
            <a:ext cx="158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5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5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qualifying for a mortgag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termine the estimated value of the home you would like to purchas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btain funds for a down payment from savings or through gifts or loans from family membe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duce other debts or improve your credit record, if necessar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re fees, services, and mortgage rates for different lende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epare the mortgage applicati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mortgage acceptance will be based on your credit recor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mount of the mortgage for which you qualify will be influenced by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mount available for a down pay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urrent mortgage rat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7138080" y="6323400"/>
            <a:ext cx="158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5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5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mortgag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xed-rate, fixed-payment mortgag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ventional 30-year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ventional 15- or 20-year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HA/VA fixed-rate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lloon” loan (3-10 year term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justable-rate, variable payment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justable-rate mortgage (AR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aduated-payment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owing-equity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other financing method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uydow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ared-appreciation mortgage (SA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cond-mortgage (home equity loan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verse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financ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7127640" y="6323400"/>
            <a:ext cx="1581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5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5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osing cos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t the real estate transaction settlement, commonly referred to as the “closing” the following are some costs that are typically incurred by a person buying a hom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tle search fee ($100-$2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tle insurance ($300-$2,0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torney fees ($200-$7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aisal fee ($300-$5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cording fees and transfer taxes ($50-$2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dit report ($25-$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rmite inspection ($50-$1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nder</a:t>
            </a:r>
            <a:r>
              <a:rPr b="0" lang="ja-JP" sz="12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 origination fee (1-3% of loan amount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rves for home insurance and property taxes (amount vari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paid in advance (if applicabl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7128000" y="6323400"/>
            <a:ext cx="159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5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5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elling your hom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fore putting your home on the market, make any preparations that could increase appeal and market val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ke necessary repai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aint exterior and interior area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pdate various features (such as new carpeting or plumbing fixtur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termine the selling price, based 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appraisal to estimate current market val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location, features, and age of the h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urrent mortgage rates and market demand in your are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e if you will do a "sale by owner"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vertise your home in various media (e.g., newspapers, Internet, flyer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 ready to meet and show your home to prospective buy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ke use of the services of a lawyer and/or title company for the legal aspec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nsider using the services of a real estate ag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view two or more agents to compare their services and experie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ect the agent to provide a marketing plan and to handle the financial and legal aspects of the sa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unicate with the agent on a regular basis regarding the selling price and prospective buy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7134840" y="6323400"/>
            <a:ext cx="157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5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5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0-04T19:59:32Z</dcterms:modified>
  <cp:revision>29</cp:revision>
  <dc:subject/>
  <dc:title>lesson three</dc:title>
</cp:coreProperties>
</file>